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gif" ContentType="image/gif"/>
  <Override PartName="/ppt/media/image1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jpeg" ContentType="image/jpeg"/>
  <Override PartName="/ppt/media/image10.wmf" ContentType="image/x-wm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5F34-54D8-4C51-AAE1-FCF3FD92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9672-C026-4DD3-A159-4281D6D9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49F7-9FBB-4165-9941-98468016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A9AF-0811-43D0-8E8C-DA177C2C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08ED-1362-44AB-A55F-24E0E67E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C4D9-D01E-4B3C-B5CE-8D7AA3E8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9305-9B0B-413B-AACC-515BD7EB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CD39-4F08-4B53-B455-148BBF76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36C8-FD18-4574-90AC-83DA5DF4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6D5C-163D-4735-B8F9-AB74DB63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9ADC-9304-4FE0-8C77-5D58AD3F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B2C3-E94D-4308-A5BB-CA70B5CE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B0BA-489A-48B3-8CBD-0EBFF98C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FE02-0C20-47F7-A9C0-8353BCBD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C065-B7E1-4698-9647-604841C0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4720-7E29-4597-8E9D-1F2CEC54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FA14-A82D-4FBB-A607-56F90F8C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AAF9-83DB-4D89-BF83-28D26858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8192-37D3-4EC6-B801-47697A2C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3EC-D031-4FAD-A7C2-88EC6A11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F3B1-5ACB-4295-9675-85B5DC62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09E0-B21A-4767-96E9-C58FAAC2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5B17-D043-4093-9830-5411214B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679F-8761-4233-B666-A61DDDEC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8383-9B31-4CBF-824F-3CE24E5CC14A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FF4F-4FC9-4D72-8C3C-AE5025D52B23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124080" y="685800"/>
            <a:ext cx="2667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Weather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1" name="032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44197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1116360"/>
            <a:ext cx="737856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1905120"/>
            <a:ext cx="624852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Good-bye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7" name="118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4765680" cy="6264000"/>
          </a:xfrm>
          <a:prstGeom prst="rect">
            <a:avLst/>
          </a:prstGeom>
          <a:ln w="0">
            <a:noFill/>
          </a:ln>
        </p:spPr>
      </p:pic>
      <p:pic>
        <p:nvPicPr>
          <p:cNvPr id="328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  <p:pic>
        <p:nvPicPr>
          <p:cNvPr id="329" name="SO00483_" descr=""/>
          <p:cNvPicPr/>
          <p:nvPr/>
        </p:nvPicPr>
        <p:blipFill>
          <a:blip r:embed="rId3"/>
          <a:stretch/>
        </p:blipFill>
        <p:spPr>
          <a:xfrm>
            <a:off x="8153280" y="0"/>
            <a:ext cx="741600" cy="657360"/>
          </a:xfrm>
          <a:prstGeom prst="rect">
            <a:avLst/>
          </a:prstGeom>
          <a:ln w="0">
            <a:noFill/>
          </a:ln>
        </p:spPr>
      </p:pic>
      <p:pic>
        <p:nvPicPr>
          <p:cNvPr id="330" name="FD00306_" descr=""/>
          <p:cNvPicPr/>
          <p:nvPr/>
        </p:nvPicPr>
        <p:blipFill>
          <a:blip r:embed="rId4"/>
          <a:stretch/>
        </p:blipFill>
        <p:spPr>
          <a:xfrm>
            <a:off x="762120" y="4191120"/>
            <a:ext cx="4043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vis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Yes . I’d like to bye two tickets for Shanghai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. ________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Next Frida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Let me see. FlighCA982____________.     There are still tickets for you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. __________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TR00116_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849600" cy="1268280"/>
          </a:xfrm>
          <a:prstGeom prst="rect">
            <a:avLst/>
          </a:prstGeom>
          <a:ln w="0">
            <a:noFill/>
          </a:ln>
        </p:spPr>
      </p:pic>
      <p:pic>
        <p:nvPicPr>
          <p:cNvPr id="295" name="BL00526_" descr=""/>
          <p:cNvPicPr/>
          <p:nvPr/>
        </p:nvPicPr>
        <p:blipFill>
          <a:blip r:embed="rId2"/>
          <a:stretch/>
        </p:blipFill>
        <p:spPr>
          <a:xfrm>
            <a:off x="6400800" y="4952880"/>
            <a:ext cx="2743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w word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ove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old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ot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sh       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i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y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可爱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冷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热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钓鱼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他（ 宾格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再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晴朗的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lovely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44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It’s a lovely day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Yes, it is. Nice and sunny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791320" y="2214360"/>
            <a:ext cx="29764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NA01064_" descr=""/>
          <p:cNvPicPr/>
          <p:nvPr/>
        </p:nvPicPr>
        <p:blipFill>
          <a:blip r:embed="rId1"/>
          <a:stretch/>
        </p:blipFill>
        <p:spPr>
          <a:xfrm>
            <a:off x="5383080" y="1600200"/>
            <a:ext cx="3760920" cy="4040280"/>
          </a:xfrm>
          <a:prstGeom prst="rect">
            <a:avLst/>
          </a:prstGeom>
          <a:ln w="0">
            <a:noFill/>
          </a:ln>
        </p:spPr>
      </p:pic>
      <p:pic>
        <p:nvPicPr>
          <p:cNvPr id="303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cold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981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It’s cold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Yes 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40160" y="23619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SO00305_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159360" cy="3460680"/>
          </a:xfrm>
          <a:prstGeom prst="rect">
            <a:avLst/>
          </a:prstGeom>
          <a:ln w="0">
            <a:noFill/>
          </a:ln>
        </p:spPr>
      </p:pic>
      <p:pic>
        <p:nvPicPr>
          <p:cNvPr id="308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ho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It’s hot,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isn’t it</a:t>
            </a: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Yes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PE00542_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34131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a little windy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5362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Lovely weather, isn’t it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Yes. But a little windy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5880" y="2209680"/>
            <a:ext cx="2671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l1523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5146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1.  </a:t>
            </a: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a lovely day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2.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a nice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95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It’s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</a:rPr>
              <a:t>a fine day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, isn’t it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Look, he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’s fishing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34120" y="2214360"/>
            <a:ext cx="3433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l1522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429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_______________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Look,____________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2" name="SO00483_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184464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3T13:35:59Z</dcterms:created>
  <dc:creator>jxh</dc:creator>
  <dc:description/>
  <dc:language>en-US</dc:language>
  <cp:lastModifiedBy>jxh</cp:lastModifiedBy>
  <dcterms:modified xsi:type="dcterms:W3CDTF">2001-12-23T15:17:58Z</dcterms:modified>
  <cp:revision>3</cp:revision>
  <dc:subject/>
  <dc:title>PowerPoint 演示文稿</dc:title>
</cp:coreProperties>
</file>